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9.gif" ContentType="image/gif"/>
  <Override PartName="/ppt/media/image1.png" ContentType="image/png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8.wmf" ContentType="image/x-wmf"/>
  <Override PartName="/ppt/media/image10.gif" ContentType="image/gi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68F6-34A4-4040-B818-31FDCAA308E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is penny's slide show on gymn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930-0E6D-42A6-A859-40340B4B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382-0027-422B-B652-97022355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9D8-C4E6-4692-9C67-DD8542B6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785-CFE0-4AB1-B95D-4B180F46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9E63-86B1-4C30-B194-D0BA8731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965-C4D9-4A2C-8054-B2BCDA60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848D-22A4-45B0-AEBF-6E4FFE41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169A-A33D-4A7C-9AA1-EAFF44B9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1907-6CD4-443E-AA4B-91DB71CB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883-6261-4551-928C-510F38EB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345-5E86-431E-8367-49533ECA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ED4-7F0A-4516-AF71-4E2F96B3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9DD1-C0F6-4745-96AF-F7A8D485F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2.gif"/><Relationship Id="rId7" Type="http://schemas.openxmlformats.org/officeDocument/2006/relationships/image" Target="../media/image10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9280" y="1700280"/>
            <a:ext cx="849636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ccff99"/>
                    </a:gs>
                  </a:gsLst>
                  <a:lin ang="5400000"/>
                </a:gradFill>
                <a:latin typeface="Castellar"/>
              </a:rPr>
              <a:t>Gymnast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ccff99"/>
                  </a:gs>
                </a:gsLst>
                <a:lin ang="5400000"/>
              </a:gradFill>
              <a:latin typeface="Castellar"/>
              <a:ea typeface="Castellar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18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Comic Sans MS"/>
              </a:rPr>
              <a:t>For 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40464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Comic Sans MS"/>
              </a:rPr>
              <a:t>Before you star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916280"/>
            <a:ext cx="72741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First you need to make su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Your hair is tied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You are wearing suitable clot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No jewell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No shoes or s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Comic Sans MS"/>
              </a:rPr>
              <a:t>When you first start doing gymnastics train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Make sure you stret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Do this by doing lun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Then splits all wa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Pike stre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Straddle stre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Shoulder stre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Back stre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Neck stre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1700280"/>
            <a:ext cx="316872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Then warm up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Do this by running up and down the 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Then ski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Sash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Side sash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Knees up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Kicking your bottom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To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Comic Sans MS"/>
              </a:rPr>
              <a:t>Now that you have warmed up</a:t>
            </a:r>
            <a:br>
              <a:rPr sz="3600"/>
            </a:br>
            <a:r>
              <a:rPr b="0" lang="en-US" sz="3600" spc="-1" strike="noStrike">
                <a:solidFill>
                  <a:srgbClr val="66ff66"/>
                </a:solidFill>
                <a:latin typeface="Comic Sans MS"/>
              </a:rPr>
              <a:t>you should start doing some skills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Floor-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Cartwheel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Handstand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Round-off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Floor rou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Back fl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Backward and 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walk over'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1628640"/>
            <a:ext cx="2521080" cy="57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Beam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Walking on your toes up and down the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Jumping along the bea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Handstan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Cartwheel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Split jumps and leap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Dismount and 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Turns on one 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2349360"/>
            <a:ext cx="158436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tinued on next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227640" y="50133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20000" y="50133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740720" y="50133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763640" y="2276640"/>
            <a:ext cx="1440000" cy="137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932360" y="3645000"/>
            <a:ext cx="1839960" cy="785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Comic Sans MS"/>
              </a:rPr>
              <a:t>Now you have warmed up, you should start doing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Vault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Running up and 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the vault str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Knees up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Kicking your bottom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Toe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Handsprin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Front layo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Front sa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Back flip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1557360"/>
            <a:ext cx="252072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Bar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10 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5 stoop o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3 wrapar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Bars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10 k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Toe shoots off high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10 glide s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Routine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588000" y="15573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124000" y="3500280"/>
            <a:ext cx="125748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Comic Sans MS"/>
              </a:rPr>
              <a:t>Sometimes, to get stronger, you do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l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Dish hold                                     L-hang hold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Dish rocks                                    leg lif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V-snaps                                        tuck leg lif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Arch hold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am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Arch rocks                                   straddle wal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Prone                                            legs squ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Prone rocks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Front support                               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Rear support                                knees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rs</a:t>
            </a: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                                             kicking bot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Chin-ups                                       toe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Chin-up pullovers                          chicken wal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Skin the cats                                bunny 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Chin-up hold                                 spri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659640" y="981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659640" y="1700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659640" y="2421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659640" y="31417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659640" y="3860640"/>
            <a:ext cx="666720" cy="667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6659640" y="4581360"/>
            <a:ext cx="666720" cy="667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6659640" y="5300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6659640" y="602136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Comic Sans MS"/>
              </a:rPr>
              <a:t>Competitio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You need your                          What to do-          Go straight to your c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Hair tied back with hairspray            sit down with your c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Wearing your club leotard                 start warm up when its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And you club tracksuit                       then go back to your coach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No jewellery                                      go to your first appar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Be there 15 minutes before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The competition starts                       You practice your routine first the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When you get there go                       compete. On vault you have to do tw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Straight to your coach                        competition rout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What you need to wear and how.            What you do when comp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3348000" y="4221000"/>
            <a:ext cx="432000" cy="4320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7812000" y="4292280"/>
            <a:ext cx="216000" cy="43164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Comic Sans MS"/>
              </a:rPr>
              <a:t>Just to let you know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When you do gymnastics your child or you can get 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Really bad injuries. That only happens if you don’t d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Properly or there is something wrong with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equipment your using. If something happens the c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Will be there to help, they can always call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Ambulance and if it is just a pain that keeps co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Back when you do gym, you can always go to a physio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Comic Sans MS"/>
              </a:rPr>
              <a:t>Thank-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Thank-you for reading my slide sh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I hope you learnt something n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I hope you know what to do at gymnastics 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I hope you enjoyed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And most of all I hope you have fun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Gymnastics. I wan to see you at the Olympic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08:31:03Z</dcterms:created>
  <dc:creator>Heidi</dc:creator>
  <dc:description/>
  <dc:language>en-US</dc:language>
  <cp:lastModifiedBy>Heidi</cp:lastModifiedBy>
  <dcterms:modified xsi:type="dcterms:W3CDTF">2009-07-08T11:03:03Z</dcterms:modified>
  <cp:revision>8</cp:revision>
  <dc:subject/>
  <dc:title>Slide 1</dc:title>
</cp:coreProperties>
</file>